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7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6.png" ContentType="image/png"/>
  <Override PartName="/ppt/media/image14.wmf" ContentType="image/x-wmf"/>
  <Override PartName="/ppt/media/image22.png" ContentType="image/png"/>
  <Override PartName="/ppt/media/image21.wmf" ContentType="image/x-wmf"/>
  <Override PartName="/ppt/media/image4.wmf" ContentType="image/x-wmf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6B0-605D-42A2-ADE5-BA335456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F9C-311E-4739-8305-3C035B31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820-9560-4B7D-B070-9CB0A4D6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753-203D-495B-B129-B5895CCE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789D-6DD9-4217-8BEB-A8C6BE3A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430B-293D-4F19-9782-925040A0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F061-1DC0-4EA0-B0F1-8485594F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3646-F05E-4C7A-A967-6DF9F554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C918-B2B5-408A-80A8-341B7DCD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CB1C1-0855-4428-B0A7-E7C4DBC0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92D5-7ED4-4F21-8FB5-1665C462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1A9B-D874-4A03-905E-148CF8A1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320F-0F8E-4FFA-9F80-8A0EF54E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60E2-3A2D-45FD-B4B3-6FCF9EDC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22AE-513A-44DD-B16D-F5238FF9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CF4C-2FBA-4283-B54F-DA84AB75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7303-83D1-4DDE-968B-B64DE330E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E41-53F7-4033-8AD1-5EE4B0CF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802C-011E-4DA1-91E2-F188E42D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EF44-78F3-4E15-B738-06FFE916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3F7-AC74-4140-93EA-346562C7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B048-2ADD-41CE-BB96-6406736D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5B0-8BEA-48BC-BD9A-3615A587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938-BF17-4FC9-B318-65F93653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FB2C-D181-44FB-A1BD-6E84A42C8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D0C3-D6B8-4FAE-87BC-517A1D6582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14102" t="8010" r="13142" b="0"/>
          <a:stretch/>
        </p:blipFill>
        <p:spPr>
          <a:xfrm>
            <a:off x="2050920" y="0"/>
            <a:ext cx="52452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195640" y="1413000"/>
            <a:ext cx="489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Prezentare după materialele din setul “Flopi şi apa” realizată de educ. Mazilu Veronica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Grădiniţa Nr. 2 Apa Asău, com. Asău, jud. Bacă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510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313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629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588000" y="4005360"/>
            <a:ext cx="57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5668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6307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00000" y="-3240"/>
            <a:ext cx="7488360" cy="6861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365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291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251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262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656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57290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754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5548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521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2229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324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40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730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243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05:55Z</dcterms:created>
  <dc:creator>trilu-lilu</dc:creator>
  <dc:description/>
  <dc:language>en-US</dc:language>
  <cp:lastModifiedBy>trilu-lilu</cp:lastModifiedBy>
  <dcterms:modified xsi:type="dcterms:W3CDTF">2010-01-10T15:56:59Z</dcterms:modified>
  <cp:revision>5</cp:revision>
  <dc:subject/>
  <dc:title>Diapozitivul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